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A17-AB04-4A09-B577-DB9050E3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74B-3816-40D7-A2BC-46C173D9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846-8FA6-40E8-8274-99AA94E0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440-AAD3-413E-ACA1-6433D168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9C0C-3184-434A-A868-E5A5A896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B979-C793-41F6-85D7-30D77B43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404A-A01A-46E4-82FB-FE8CF1CB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FF9B-2063-4A5F-AFCE-2810D9F1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5B2E-456C-4DF2-9590-0AACE042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AC68-400C-41F2-AB23-105AB98D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F257-869F-4F73-9B4A-6A2CD1E1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C62-9AEB-4DA1-801C-E26EFEA7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33FA-441F-4222-81C0-AA86DC81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C1F7-330D-4F71-B461-9840787B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BD5D-1035-47F2-9E96-875A2334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0B60-0166-4E47-ABBE-2A4CAEDC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2832-81F3-402B-A672-822FF840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B9C-1CC1-4F4A-8D00-A4CF0115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847-D399-4119-A944-F2BFC1C1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107-7309-46D0-8332-CF255134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DB5-869E-4BDB-B84B-86155376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AE1-EC05-448C-A038-BF571536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6EB-078A-426B-B0C3-45A26B37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A0C-4D1A-484F-8E92-F6768C9A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B5AA-738B-480D-8163-025CE480C2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6CED-4991-4834-B17C-7B7DE55A4C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Opener: Bisect the following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)  A 14 foot long piece of w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)  A 108 degree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)  A 25 inch long line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)  A right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Unit 6: Geometry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aw geometric figures using a variety of to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ere to begin…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ion -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ractor 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00"/>
                </a:solidFill>
                <a:latin typeface="Verdana"/>
              </a:rPr>
              <a:t>What information would you need to create a triangle in terms of angles and sides?  Do you really need to know all 3 angles and side lengths to create a triangl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ngle-Side-Angl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is type of construction, you are provid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angle meas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ength of one si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your triangl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draw the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, create one angle on the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, create the other angle on the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sides are created where they inters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6576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44197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53341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66294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0044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867280" y="33526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2670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1532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7162920" y="457164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629400" y="60958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695720" y="6095880"/>
            <a:ext cx="12956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ngle-Side-Angle 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apply these steps to the following clues: 4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°, 103° and a side that’s 3 inches lo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ractor Work W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d Numbered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mcgra</cp:lastModifiedBy>
  <dcterms:modified xsi:type="dcterms:W3CDTF">2012-02-01T12:50:07Z</dcterms:modified>
  <cp:revision>17</cp:revision>
  <dc:subject/>
  <dc:title>Unit 6: Geometry</dc:title>
</cp:coreProperties>
</file>